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57B-EEB6-474E-B1D2-0DA6E65E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6F5-149D-4F1A-A66B-810DEB5E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3D6-935F-4F54-A4A0-F27E5BD5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0CC-BCCA-48AB-A136-6634B0D9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68D-FBCD-419E-8D17-AE1BF7E2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722-C77B-497C-9BEE-156A0A2D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6B7-28E4-48B7-BB6C-2AF74207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B72-E3B7-4C5B-8461-3FC3E964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14E-65D7-481A-8017-BF57286B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B76-BA4D-47F3-BC3B-FCEA857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8AF-F108-4C38-A123-8F464775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95A-0F0B-4391-9A44-2BE22ED2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DC50-2FC7-4F34-B050-552B6FAD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00"/>
                </a:solidFill>
                <a:latin typeface="Script MT Bold"/>
              </a:rPr>
              <a:t>Презентация к занятию внеурочной деятельности по ИЗО «Лесные жите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05160" y="4800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Автор: Попова Ири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Все загадки разга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И немножко погул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А теперь вернулись в клас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Будем дружно рис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Простой карандаш"/>
          <p:cNvPicPr/>
          <p:nvPr/>
        </p:nvPicPr>
        <p:blipFill>
          <a:blip r:embed="rId1"/>
          <a:stretch/>
        </p:blipFill>
        <p:spPr>
          <a:xfrm>
            <a:off x="6095880" y="4038480"/>
            <a:ext cx="2438640" cy="2457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Собираем выставку раб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56236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ᐈ Картинки принадлежности для рисования фотографии, картинки ...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Правила поведения в ле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Не кричать, не шум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Не ломать деревья, кустарники и ц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Не разорять гнезда и «домики» лесных ж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Не забирать животных из леса д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Не разводить ог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Животные леса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Животные леса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763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Фото Лиса стоит на лесной полянке среди опавшей листвы и смотрит на бабочку, by Felia Draw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9T10:39:18Z</dcterms:created>
  <dc:creator>1</dc:creator>
  <dc:description/>
  <dc:language>en-US</dc:language>
  <cp:lastModifiedBy>1</cp:lastModifiedBy>
  <dcterms:modified xsi:type="dcterms:W3CDTF">2020-05-19T11:50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